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2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  <p:sldId id="320" r:id="rId79"/>
    <p:sldId id="321" r:id="rId80"/>
    <p:sldId id="322" r:id="rId81"/>
    <p:sldId id="323" r:id="rId82"/>
    <p:sldId id="324" r:id="rId83"/>
    <p:sldId id="325" r:id="rId84"/>
    <p:sldId id="326" r:id="rId85"/>
    <p:sldId id="327" r:id="rId86"/>
    <p:sldId id="328" r:id="rId87"/>
    <p:sldId id="329" r:id="rId88"/>
    <p:sldId id="330" r:id="rId89"/>
    <p:sldId id="331" r:id="rId90"/>
    <p:sldId id="332" r:id="rId91"/>
    <p:sldId id="333" r:id="rId92"/>
    <p:sldId id="334" r:id="rId93"/>
    <p:sldId id="335" r:id="rId94"/>
    <p:sldId id="336" r:id="rId95"/>
    <p:sldId id="337" r:id="rId96"/>
    <p:sldId id="338" r:id="rId97"/>
    <p:sldId id="339" r:id="rId98"/>
    <p:sldId id="340" r:id="rId99"/>
    <p:sldId id="341" r:id="rId100"/>
    <p:sldId id="342" r:id="rId101"/>
    <p:sldId id="343" r:id="rId102"/>
    <p:sldId id="344" r:id="rId103"/>
    <p:sldId id="345" r:id="rId104"/>
    <p:sldId id="346" r:id="rId105"/>
    <p:sldId id="347" r:id="rId106"/>
    <p:sldId id="348" r:id="rId107"/>
    <p:sldId id="349" r:id="rId108"/>
    <p:sldId id="350" r:id="rId109"/>
    <p:sldId id="351" r:id="rId110"/>
    <p:sldId id="352" r:id="rId111"/>
    <p:sldId id="353" r:id="rId112"/>
    <p:sldId id="354" r:id="rId113"/>
    <p:sldId id="355" r:id="rId114"/>
    <p:sldId id="356" r:id="rId115"/>
    <p:sldId id="357" r:id="rId116"/>
    <p:sldId id="358" r:id="rId117"/>
    <p:sldId id="359" r:id="rId118"/>
    <p:sldId id="360" r:id="rId1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slide" Target="slides/slide65.xml"/><Relationship Id="rId80" Type="http://schemas.openxmlformats.org/officeDocument/2006/relationships/slide" Target="slides/slide66.xml"/><Relationship Id="rId81" Type="http://schemas.openxmlformats.org/officeDocument/2006/relationships/slide" Target="slides/slide67.xml"/><Relationship Id="rId82" Type="http://schemas.openxmlformats.org/officeDocument/2006/relationships/slide" Target="slides/slide68.xml"/><Relationship Id="rId83" Type="http://schemas.openxmlformats.org/officeDocument/2006/relationships/slide" Target="slides/slide69.xml"/><Relationship Id="rId84" Type="http://schemas.openxmlformats.org/officeDocument/2006/relationships/slide" Target="slides/slide70.xml"/><Relationship Id="rId85" Type="http://schemas.openxmlformats.org/officeDocument/2006/relationships/slide" Target="slides/slide71.xml"/><Relationship Id="rId86" Type="http://schemas.openxmlformats.org/officeDocument/2006/relationships/slide" Target="slides/slide72.xml"/><Relationship Id="rId87" Type="http://schemas.openxmlformats.org/officeDocument/2006/relationships/slide" Target="slides/slide73.xml"/><Relationship Id="rId88" Type="http://schemas.openxmlformats.org/officeDocument/2006/relationships/slide" Target="slides/slide74.xml"/><Relationship Id="rId89" Type="http://schemas.openxmlformats.org/officeDocument/2006/relationships/slide" Target="slides/slide75.xml"/><Relationship Id="rId90" Type="http://schemas.openxmlformats.org/officeDocument/2006/relationships/slide" Target="slides/slide76.xml"/><Relationship Id="rId91" Type="http://schemas.openxmlformats.org/officeDocument/2006/relationships/slide" Target="slides/slide77.xml"/><Relationship Id="rId92" Type="http://schemas.openxmlformats.org/officeDocument/2006/relationships/slide" Target="slides/slide78.xml"/><Relationship Id="rId93" Type="http://schemas.openxmlformats.org/officeDocument/2006/relationships/slide" Target="slides/slide79.xml"/><Relationship Id="rId94" Type="http://schemas.openxmlformats.org/officeDocument/2006/relationships/slide" Target="slides/slide80.xml"/><Relationship Id="rId95" Type="http://schemas.openxmlformats.org/officeDocument/2006/relationships/slide" Target="slides/slide81.xml"/><Relationship Id="rId96" Type="http://schemas.openxmlformats.org/officeDocument/2006/relationships/slide" Target="slides/slide82.xml"/><Relationship Id="rId97" Type="http://schemas.openxmlformats.org/officeDocument/2006/relationships/slide" Target="slides/slide83.xml"/><Relationship Id="rId98" Type="http://schemas.openxmlformats.org/officeDocument/2006/relationships/slide" Target="slides/slide84.xml"/><Relationship Id="rId99" Type="http://schemas.openxmlformats.org/officeDocument/2006/relationships/slide" Target="slides/slide85.xml"/><Relationship Id="rId100" Type="http://schemas.openxmlformats.org/officeDocument/2006/relationships/slide" Target="slides/slide86.xml"/><Relationship Id="rId101" Type="http://schemas.openxmlformats.org/officeDocument/2006/relationships/slide" Target="slides/slide87.xml"/><Relationship Id="rId102" Type="http://schemas.openxmlformats.org/officeDocument/2006/relationships/slide" Target="slides/slide88.xml"/><Relationship Id="rId103" Type="http://schemas.openxmlformats.org/officeDocument/2006/relationships/slide" Target="slides/slide89.xml"/><Relationship Id="rId104" Type="http://schemas.openxmlformats.org/officeDocument/2006/relationships/slide" Target="slides/slide90.xml"/><Relationship Id="rId105" Type="http://schemas.openxmlformats.org/officeDocument/2006/relationships/slide" Target="slides/slide91.xml"/><Relationship Id="rId106" Type="http://schemas.openxmlformats.org/officeDocument/2006/relationships/slide" Target="slides/slide92.xml"/><Relationship Id="rId107" Type="http://schemas.openxmlformats.org/officeDocument/2006/relationships/slide" Target="slides/slide93.xml"/><Relationship Id="rId108" Type="http://schemas.openxmlformats.org/officeDocument/2006/relationships/slide" Target="slides/slide94.xml"/><Relationship Id="rId109" Type="http://schemas.openxmlformats.org/officeDocument/2006/relationships/slide" Target="slides/slide95.xml"/><Relationship Id="rId110" Type="http://schemas.openxmlformats.org/officeDocument/2006/relationships/slide" Target="slides/slide96.xml"/><Relationship Id="rId111" Type="http://schemas.openxmlformats.org/officeDocument/2006/relationships/slide" Target="slides/slide97.xml"/><Relationship Id="rId112" Type="http://schemas.openxmlformats.org/officeDocument/2006/relationships/slide" Target="slides/slide98.xml"/><Relationship Id="rId113" Type="http://schemas.openxmlformats.org/officeDocument/2006/relationships/slide" Target="slides/slide99.xml"/><Relationship Id="rId114" Type="http://schemas.openxmlformats.org/officeDocument/2006/relationships/slide" Target="slides/slide100.xml"/><Relationship Id="rId115" Type="http://schemas.openxmlformats.org/officeDocument/2006/relationships/slide" Target="slides/slide101.xml"/><Relationship Id="rId116" Type="http://schemas.openxmlformats.org/officeDocument/2006/relationships/slide" Target="slides/slide102.xml"/><Relationship Id="rId117" Type="http://schemas.openxmlformats.org/officeDocument/2006/relationships/slide" Target="slides/slide103.xml"/><Relationship Id="rId118" Type="http://schemas.openxmlformats.org/officeDocument/2006/relationships/slide" Target="slides/slide104.xml"/><Relationship Id="rId119" Type="http://schemas.openxmlformats.org/officeDocument/2006/relationships/slide" Target="slides/slide105.xml"/><Relationship Id="rId1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3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3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3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54F0-719D-4E97-8FC2-4BEDAE04DE4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9864-12FD-4DEE-A2C1-CE5BCFB263D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4941-D3B0-406C-BAE0-82876C1B7B4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6FDA-C206-4320-8D44-F8A770AD46C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急性上呼吸道感染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cute Upper Respiratory Infection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URI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简称上感）是小儿时期最常见的疾病，是病原体侵犯喉以上呼吸道系统的急性炎症的统称，包括以急性咽炎为主的普通感冒，及急性鼻窦炎、扁桃体咽炎、喉炎、会厌炎等。当炎症仅局限在某一部位（或器官）时，则称该部位炎症，如急性咽炎、急性扁桃体炎、急性鼻炎等。当上感由流行性感冒病毒引起，并在某一地区人群中发生流行时，则称为流行性感冒。上感的病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9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以上为病毒，细菌仅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左右，不同年龄小儿上感有不同的特点，并有两种特殊类型的上感，咽结合膜热和疱疹性咽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一、病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引起上感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9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％以上是病毒，主要有呼吸道合胞病毒、流感病毒、副流感病毒、腺病毒、鼻病毒和柯萨奇病毒等。病毒感染后也可继发细菌感染，常见为溶血性链球菌、肺炎链球菌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疱疹性咽峡炎（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  <a:ea typeface="宋体"/>
              </a:rPr>
              <a:t>herpangin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柯萨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组病毒引起，好发于夏秋季。表现为急起高热、咽痛、流涎、厌食、呕吐等，体检可见咽充血，咽腭弓、悬雍垂、软腭等处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mm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小的疱疹，周围有红晕，疱疹破溃后形成小溃疡。患儿因疼痛而影响吞咽和进食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左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疱疹性咽峡炎（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  <a:ea typeface="宋体"/>
              </a:rPr>
              <a:t>herpangin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柯萨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组病毒引起，好发于夏秋季。表现为急起高热、咽痛、流涎、厌食、呕吐等，体检可见咽充血，咽腭弓、悬雍垂、软腭等处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mm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小的疱疹，周围有红晕，疱疹破溃后形成小溃疡。患儿因疼痛而影响吞咽和进食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左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咽结合膜热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haryngo-conjunctival fever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腺病毒引起，春夏季发病多，可在集体儿童机构中流行。临床以发热、咽炎、结合膜炎为主要特征。表现为高热、咽痛、一侧或双侧眼结合膜炎，眼部刺痛、流泪、结膜充血。颈部、耳后淋巴结肿大，有时伴胃肠道症状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知识卡片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influenza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简称流感，是由流感病毒引起，可致大流行。常突然发生，蔓延迅速，发病率高，流行期短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的早期症状类似感冒的症状，包括高热、头痛、身体虚弱、全身肌肉酸痛，部分患者流清涕、鼻塞、咽痛、眼结膜充血等。特点是全身症状重而呼吸道局部症状较轻。预防流行性感冒的最有效方法包括：充足睡眠、均衡饮食、适量运动及保持空气流通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并发症  婴幼儿可继发中耳炎、咽后壁脓肿、支气管炎、肺炎和败血症等，年长儿若患链球菌性上感可引起急性肾炎、风湿热等疾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三）实验室及其他检查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毒感染者白细胞计数正常或偏低，病毒分离和血清反应可明确病原体；细菌感染者白细胞增高，中性粒细胞增高，咽拭子培养可有病原菌生长；链球菌引起者血中抗链球菌溶血素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”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SO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滴度可增高。胸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无异常改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治疗要点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治疗原则以支持疗法和对症治疗为主，适当选用抗病毒药物，如三氮唑核苷（病毒唑），每日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5mg/kg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分次肌注或静滴，疗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天。继发细菌感染或发生并发症者应用抗生素；如确诊为溶血性链球菌感染或既往有肾炎、风湿热病史者，应用青霉素，疗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天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护理诊断／合作性问题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舒适的改变  与咽痛、鼻塞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体温过高  与上呼吸道感染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潜在并发症：惊厥  与高热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降低体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密切观察体温变化，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测一次体温，体温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8.5℃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时给予物理降温，如头部冷敷、腋下及腹股沟处置冰袋、温水或乙醇擦浴、冷盐水灌肠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遵医嘱给予退热剂，口服对乙酰氨基酚或布洛芬。复方柴胡注射液肌内注射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③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保证患儿摄入充足的水分，鼓励患儿多饮水，给予易消化和富含维生素的清淡饮食，必要时静脉补充营养和水分；及时更换汗湿的衣服并适度保暖，避免因受凉而使症状加重或反复；保持口腔及皮肤清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观察病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密切观察病情变化，警惕高热惊厥的发生。当体温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8.5℃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时应采取降温措施，并保持室内安静，减少刺激。密切观察有无惊厥先兆，尤其是对有高热惊厥史的患儿更应注意，若高热患儿出现兴奋、烦躁、惊跳等惊厥先兆，应立即通知医生，按医嘱给予地西泮、苯巴比妥、水合氯醛等镇静药并同时采取降温措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患儿病情加重，体温持续不退，应考虑有无并发症的可能，需及时报告和处理。如病程中出现皮疹，应区别是否为某种传染病早期征象，以便及时采取措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健康教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导家长掌握上呼吸道感染的预防知识和护理要点，懂得相应的应对技巧，如加强体格锻炼多进行户外活动，以增强机体抵抗力，但在呼吸道疾病流行期间，避免去人多拥挤的公共场所；气候变化时及时添减衣服，避免过热或过冷。鼓励母乳喂养，及时添加辅食，积极防治各种慢性疾病，如佝偻病、营养不良及贫血等，按时预防接种。在集体儿童机构中，如有上感流行趋势，应早期隔离患儿，室内用食醋熏蒸法消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食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ml/m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加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倍，加热熏蒸到全部气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B60D-4A09-49FF-B1A6-F69E6367D46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呼吸系统以环状软骨为界，划分为上下呼吸道，上呼吸道分为鼻、鼻窦、咽、咽鼓管、会厌及喉；下呼吸道分为气管、支气管、毛细支气管、肺泡管及肺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儿以急性支气管肺炎多见，一年四季发病，本节主要介绍支气管肺炎。小儿肺炎的病原最常见是病毒感染基础上继发细菌感染，主要表现为发热、咳嗽、气急、甚至发绀，及肺部细湿啰音等，轻型和重型肺炎有不同的临床特征，重症肺炎还可并发呼吸衰竭或其他系统功能的明显损害，不同病原体所致肺炎也有不同的特点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儿以急性支气管肺炎多见，一年四季发病，本节主要介绍支气管肺炎。小儿肺炎的病原最常见是病毒感染基础上继发细菌感染，主要表现为发热、咳嗽、气急、甚至发绀，及肺部细湿啰音等，轻型和重型肺炎有不同的临床特征，重症肺炎还可并发呼吸衰竭或其他系统功能的明显损害，不同病原体所致肺炎也有不同的特点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机体因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小儿下呼吸道器官的解剖生理特点及免疫特点，是小儿易发生肺炎的重要因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年龄及营养状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小儿和营养不良小儿，免疫能力较低下，易受病原体侵袭发生肺炎，并且重型肺炎多，病死率亦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疾病影响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先天畸形（尤其是先天性心血管疾病）、重度佝偻病、脑发育不全、接受化疗、放疗、免疫抑制治疗的小儿或原发性免疫缺陷的小儿易患肺炎，并易致重型肺炎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居室条件差（如通风不良、拥挤或阴暗潮湿）、空气污浊（如吸烟、工厂化学气体的污染）及气候骤变所致的环境温度变化，使肺炎发病率增加。与病毒性肺炎患儿同室居住，可交叉感染，甚至引起在病房、托儿机构中小流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机体因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小儿下呼吸道器官的解剖生理特点及免疫特点，是小儿易发生肺炎的重要因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年龄及营养状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小儿和营养不良小儿，免疫能力较低下，易受病原体侵袭发生肺炎，并且重型肺炎多，病死率亦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疾病影响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先天畸形（尤其是先天性心血管疾病）、重度佝偻病、脑发育不全、接受化疗、放疗、免疫抑制治疗的小儿或原发性免疫缺陷的小儿易患肺炎，并易致重型肺炎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居室条件差（如通风不良、拥挤或阴暗潮湿）、空气污浊（如吸烟、工厂化学气体的污染）及气候骤变所致的环境温度变化，使肺炎发病率增加。与病毒性肺炎患儿同室居住，可交叉感染，甚至引起在病房、托儿机构中小流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发病机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原体多由呼吸道入侵，也可经血行入肺，引起支气管、肺泡、肺间质炎症，支气管因黏膜水肿而管腔变窄，肺泡壁因充血水肿而增厚，肺泡腔内充满炎症渗出物，造成通气和换气功能障碍，导致低氧血症及高碳酸血症。为代偿缺氧，患儿呼吸与心率加快，出现鼻翼扇动和三凹征，严重时可产生呼吸衰竭。由于病原体作用，重症肺炎常伴有毒血症，导致不同程度的感染中毒症状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缺氧、二氧化碳潴留及毒血症可致机体代谢及器官功能障碍：①循环系统：缺氧使肺小动脉反射性收缩，肺循环压力增高，造成肺动脉高压；同时病原体和毒素侵袭心肌，引起中毒性心肌炎。肺动脉高压和中毒性心肌炎均可诱发心力衰竭；②中枢神经系统：缺氧和高碳酸血症使脑血管扩张、血流减慢、血管通透性增加，可致脑水肿和颅内压增高。病原体毒素作用亦可引起脑水肿；③消化系统：低氧血症和毒血症可引起胃黏膜糜烂、出血、上皮细胞坏死脱落等应激性反应，导致黏膜屏障功能破坏，使胃肠功能紊乱，严重者可引起中毒性肠麻痹和消化道出血；④水、电解质和酸碱平衡紊乱：重症肺炎可出现混合性酸中毒，因为严重缺氧时体内需氧代谢障碍，酸性代谢产物增加常可引起代谢性酸中毒，而二氧化碳潴留、碳酸增加又可导致呼吸性酸中毒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实验室及其他检查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血常规  细菌性肺炎时白细胞总数及中性粒细胞增高，并有核左移，胞浆中可见中毒颗粒；病毒性肺炎时白细胞总数正常或降低，有时可见异型淋巴细胞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原学检查  取鼻咽拭子或气管分泌物标本可作病毒分离和鉴别；取痰液、气管吸出物、胸水、脓液及血液等作细菌培养，可明确病原菌；肺炎支原体、沙眼衣原体、真菌等可通过特殊分离培养获得相应病原诊断；病毒特异性抗原和抗体检测有助于早期诊断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胸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  支气管肺炎早期肺纹理增粗，以后出现大小不等的斑片状阴影，可融合成片，以双肺下野、中内带及心膈区居多，多伴有肺不张或肺气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6149-7277-4B02-82F1-553C55488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186B-4D16-4A43-AD51-0369497A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DC86AB-01DE-4C47-88A1-916417B1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A4063B-A90B-4CD5-A985-5A017AF2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EC0363-95C5-4A1A-AF32-32C20E9E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94BFCC-4F1B-411F-8C8D-26D8BEAB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1226EC-82E0-4D4C-95B6-A95C8C78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201464-9E21-4CEC-90BA-E1CFA426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F2A375-7557-4ACD-8196-949D2363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6E599A-1008-428C-95F7-F6B5FF5D6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24151E-3F8F-4BF5-BD39-1B51BFA65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91F9B8-725D-47A0-AB25-E4BE507BD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C7FA-6A8E-4E71-BF3E-8B7B91599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219E87-9803-40E5-825A-91C8CEB5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710CCE-B947-46C5-BFEF-BD9F8D12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AD35A4-98A8-4B83-A0CD-F91435AE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36B17D-00DA-4B17-A592-EA7FFFBC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4EF89E-CEA3-4BC1-8AF5-22217512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09B333-4A26-40CF-8538-5E46AF47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E106EF-3E7C-46D3-84D5-C12FF717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00A36A-9E88-4FDD-859A-B3F0828E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84F327-C841-4510-B859-9B18DC0F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BCB8BE-E99E-485B-A514-392CB5974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5059-973B-45F0-8A6C-E39A10DFB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ACE04A-AEBA-44F9-AE64-263E8C48C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E5FBEFE-90E5-43BF-AE3A-C87810D70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676DE36-2481-4E8F-93DB-0F661D83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DD73F59-D263-48BD-9631-65D400AD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7AB7166-5DAC-49EC-916C-C2665455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D877240-59C1-4E91-8F59-772BA9D8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DED490B-9CF9-4CD0-BE01-2CDC8193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DD0A760-59A7-4471-AA70-EFFDF286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C0E6E4F-9A7D-4530-B22C-7AA6144E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E984F23-384D-4416-807F-601C7B9A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D2BC6C1-D2EF-4DBC-9F1C-E3A67F7E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FB07555-2C7D-4A6F-AF48-792714B7B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D0DE694-B695-4881-9524-C9A458773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0B5E96-304C-4F14-B45C-FF3ABEAF3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A1D6E2-0918-4F47-98C6-59AA207C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74AD22-2035-49AC-8D7C-0B3E1A5C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F6E4FE-426D-4053-A778-2B1A3D73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3D460F-F371-46F3-95B8-B74875B4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D55488-8A72-44C0-B6DE-D004DB89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0CFBB9-28E0-4725-950B-CE36D99A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EB48B2-D203-485E-9E12-0133E1AD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9056CB-4A4C-411F-B156-1CFDB89E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F2C9FB-6CF3-405D-90DC-3C0C4765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FAA0D9-F1BA-49D2-AD3B-1EA8AF3EB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989370-36C8-456E-AA13-D5539445C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A5F8-5725-4A14-B628-BF16DC96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8C961A-D0AC-4E17-875E-8200FF748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837D41-CE48-49E7-B882-D4DCB55F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CDB0BD-962D-4F45-B412-3A0E103E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9AF5EB-316D-486E-A769-828D3BEE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125786-0EC2-4F77-824C-6113B5C8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13E7-46A2-491B-8DF1-ED583945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43F993-EC43-4026-9E51-D4D43392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2BCFA0-D55A-4C52-9EED-2E0B88AF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3A4E71-41E8-4185-8B0A-5F031EEF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F4C324-02D4-405A-9791-B30FA2E2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AA2092-40AD-4D80-B725-AFC2C0E6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641E1C-5946-4AFE-BAD0-3F90A651A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5DF7E0-221F-48CA-AC97-DE2C2EC2A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B86EF4-DBA5-40EA-8F58-6D22E141F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67FD61-4DF8-421A-AB0B-100EEF80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8B0D16-1EC7-481D-AD44-A70EA3B6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32CB-7493-42C3-A8CF-598828F1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EF130C-0743-4FC7-8DA2-0FF48C5C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9BE6D2-5F54-456C-9F71-1AC29F35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D87385-D54A-415D-BF15-88302906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C584A6-D0E7-47E4-B680-E1CCD640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4146BA-725F-466A-91BA-E8883FAB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479C8B-363C-4FBF-A6D4-8CC22061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DEE98F-318A-4686-A80E-3E0F3380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D61EFB-828B-45AF-A3AA-5EA294D1C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1845E1-AAFC-4A89-8CC4-E07C969F3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548FF5-446B-434B-B343-062258FF3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F85E-C385-457B-AB9B-1E9F629F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7F732A-6B89-4053-8D6B-564FD86A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E62AE7-9147-4C26-AA04-3EA95A2C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772F78-4576-41FD-A6CE-8ED61733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6127C6-8840-4511-8FA8-4954F543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F06A89-1ABB-4087-AB20-0AC86F34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70975C-8475-46E2-A399-4826C91A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8C47DB-ECFA-4E3A-AD05-9073EA66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0F10E8-DCA4-4DB5-9DFD-043A4205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286C40-2FB1-4289-80CD-077E1334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831426-D5A4-43E6-87A8-02E22426E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C2D2-FF1C-4A80-8B72-E4375C32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93D107-37DB-41F6-AFED-D0B99D292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08A982-7C20-4134-B447-AE2172B7A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DA11C5-A8E6-45F3-B1AE-DD741566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6890FE-4BD2-44C6-A019-167DE8A6A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0C63B1-572F-4366-91CE-70C9B6D1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F13652-B79C-4CE5-8F31-58EA25B5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A6B4CF-D5E0-48FA-8F08-79C827F2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5F3F68-005B-441E-80D6-9C7AD7B7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9CFC15-EC58-4CC3-B3FA-7CCF22CB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61D839-17F4-4C83-B3D4-83C485EE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DE12-58E0-44F9-A190-9382662E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256995-52E0-458F-A728-14B8CB9B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328BFC-DAE5-40FD-B442-481E40076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889657-0B2A-4FBC-B2F3-56582DE47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2314D4-3A00-4349-A64F-8BFB6FEE5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276AE6-152F-464E-AAF6-5C451D4C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AE90E6-479B-45C8-BD5F-B54F79F0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498821-69D3-41E7-BFF1-ABE8A190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A979D0-EFEB-4BA2-9AB2-21089A65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15D307-4A74-453A-A5C5-9E109A28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5C4907-38FD-4A4B-A291-88002515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ECEC-1B74-4061-B72A-C30619B7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33EE4B-0887-4437-B052-34F2BAE6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65624B-1B66-4E6F-8276-4323ACD5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FAC42A-8CAD-46E9-8813-D05E57D3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A7C602-B888-4343-872D-6FD17E85F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CB2883-5AD4-4600-AA8B-D6C47124A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0A4651-2891-4EB0-80F5-B46B84710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A915B1-E658-4887-A36C-7C02BD21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F9C546-4FE6-4DBE-9722-9EB30270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3B7FE1-E113-4822-B46B-06A7DFD5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71287E-B201-43EA-BF07-733BA355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0679-0170-47B2-ADB1-FEBA9E57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3DF14C-8141-4758-9A49-5A8187D1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F327B8-FFB3-4017-B2D2-F9FD61EE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0039B2-3F21-4EDC-A1C7-7E00DF31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64CD65-A680-44C3-8480-34CE567D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E3F2E7-971A-4F7C-ACA7-F0A29A3A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E55467F-6B41-4C13-8F73-E61455CF5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0F546C-86F2-4F9F-A964-F7F53FD9A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3FDD4D-E10E-44D8-853D-EBB8B3071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6712C8-63A0-4D40-9948-A0196186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C92CDF-3350-4A5C-98FC-E566EC46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dt" idx="1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ftr" idx="2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F521-B68D-4402-B810-521052B329D8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5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8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49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9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9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9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49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26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27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28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0F7C-9A4E-44B4-A11E-DC755A7B55C4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4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4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54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55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5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5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55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29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30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31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1DA6-2695-4CB2-9C05-747A317661EC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60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60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0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0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60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2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3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4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9761-21DC-474A-9301-5D6C99900A60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6"/>
          <p:cNvSpPr/>
          <p:nvPr/>
        </p:nvSpPr>
        <p:spPr>
          <a:xfrm>
            <a:off x="0" y="5383080"/>
            <a:ext cx="2639880" cy="147492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" name="Rectangle 92"/>
          <p:cNvSpPr/>
          <p:nvPr/>
        </p:nvSpPr>
        <p:spPr>
          <a:xfrm>
            <a:off x="0" y="0"/>
            <a:ext cx="2658960" cy="214956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7" name="Rectangle 93"/>
          <p:cNvSpPr/>
          <p:nvPr/>
        </p:nvSpPr>
        <p:spPr>
          <a:xfrm>
            <a:off x="2666880" y="0"/>
            <a:ext cx="6477120" cy="214956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1359000" y="1706400"/>
            <a:ext cx="1231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2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9" name="Rectangle 102"/>
          <p:cNvSpPr/>
          <p:nvPr/>
        </p:nvSpPr>
        <p:spPr>
          <a:xfrm>
            <a:off x="0" y="2133720"/>
            <a:ext cx="5769000" cy="3259080"/>
          </a:xfrm>
          <a:prstGeom prst="rect">
            <a:avLst/>
          </a:prstGeom>
          <a:solidFill>
            <a:srgbClr val="eee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" name="Rectangle 103"/>
          <p:cNvSpPr/>
          <p:nvPr/>
        </p:nvSpPr>
        <p:spPr>
          <a:xfrm>
            <a:off x="5769000" y="2133720"/>
            <a:ext cx="3365640" cy="3259080"/>
          </a:xfrm>
          <a:prstGeom prst="rect">
            <a:avLst/>
          </a:prstGeom>
          <a:solidFill>
            <a:srgbClr val="d1b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" name="Line 107"/>
          <p:cNvSpPr/>
          <p:nvPr/>
        </p:nvSpPr>
        <p:spPr>
          <a:xfrm>
            <a:off x="2666880" y="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2" name="Line 109"/>
          <p:cNvSpPr/>
          <p:nvPr/>
        </p:nvSpPr>
        <p:spPr>
          <a:xfrm>
            <a:off x="0" y="539604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3" name="Rectangle 113"/>
          <p:cNvSpPr/>
          <p:nvPr/>
        </p:nvSpPr>
        <p:spPr>
          <a:xfrm>
            <a:off x="9360" y="2133720"/>
            <a:ext cx="5769000" cy="3259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4" name="Rectangle 114"/>
          <p:cNvSpPr/>
          <p:nvPr/>
        </p:nvSpPr>
        <p:spPr>
          <a:xfrm>
            <a:off x="5778360" y="2133720"/>
            <a:ext cx="3365640" cy="3259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5" name="Line 108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" name="Line 110"/>
          <p:cNvSpPr/>
          <p:nvPr/>
        </p:nvSpPr>
        <p:spPr>
          <a:xfrm>
            <a:off x="5778360" y="2139840"/>
            <a:ext cx="0" cy="326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4"/>
          </p:nvPr>
        </p:nvSpPr>
        <p:spPr>
          <a:xfrm>
            <a:off x="615276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10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11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1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1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11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5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6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7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7336-D0F4-4FED-8E2C-81C0138C3DB9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16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16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6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6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16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8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9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0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9E6E-5505-45D0-9101-F044BB5FF59E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1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1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21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22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2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2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22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1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2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3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2EA2-78F4-484C-B8ED-5A71503C28BF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27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27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7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7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27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4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5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16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DBBF-CDE4-44A7-B337-EF430CC84E8D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2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2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2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33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3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3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33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7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18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19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972C-31DD-49E4-8C39-B63AED2A45FB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8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38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8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8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38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0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1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2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4B26-95AF-4B6F-A319-A81538AC9027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3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3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43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4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4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4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44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3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4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25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E4C8-2A17-4BCF-9AC2-D9C2A63C6B2E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&#1057;%B6%F9%B7%CE%D1&#1530;%F4%CE%FC%C0%A7%C4%D1&amp;in=10775&amp;cl=2&amp;lm=-1&amp;pn=268&amp;rn=1&amp;di=21061037910&amp;ln=1813&amp;fr=&amp;fmq=&amp;ic=0&amp;s=2&amp;se=1&amp;sme=0&amp;tab=&amp;width=&amp;height=&amp;face=0&amp;is=&amp;istype=2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79400" y="691920"/>
            <a:ext cx="84297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九章 呼吸系统疾病患儿的护理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5105520" y="6477120"/>
            <a:ext cx="40384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Rectangle 13"/>
          <p:cNvSpPr/>
          <p:nvPr/>
        </p:nvSpPr>
        <p:spPr>
          <a:xfrm>
            <a:off x="1403280" y="1700280"/>
            <a:ext cx="1224000" cy="360360"/>
          </a:xfrm>
          <a:prstGeom prst="rect">
            <a:avLst/>
          </a:prstGeom>
          <a:solidFill>
            <a:srgbClr val="dcdcdc"/>
          </a:solidFill>
          <a:ln w="936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6" name="Rectangle 14"/>
          <p:cNvSpPr/>
          <p:nvPr/>
        </p:nvSpPr>
        <p:spPr>
          <a:xfrm>
            <a:off x="6516720" y="6381720"/>
            <a:ext cx="262728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7" name="Text Box 15"/>
          <p:cNvSpPr/>
          <p:nvPr/>
        </p:nvSpPr>
        <p:spPr>
          <a:xfrm>
            <a:off x="4394880" y="5445000"/>
            <a:ext cx="2468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  <a:ea typeface="宋体"/>
              </a:rPr>
              <a:t>内蒙古医科大学附属医院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ff"/>
                </a:solidFill>
                <a:latin typeface="Arial"/>
                <a:ea typeface="宋体"/>
              </a:rPr>
              <a:t>                           </a:t>
            </a:r>
            <a:r>
              <a:rPr b="0" lang="zh-CN" sz="2000" spc="-1" strike="noStrike">
                <a:solidFill>
                  <a:srgbClr val="ff00ff"/>
                </a:solidFill>
                <a:latin typeface="Arial"/>
                <a:ea typeface="宋体"/>
              </a:rPr>
              <a:t>王继春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68" name="图片 6" descr="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83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231300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TextBox 7"/>
          <p:cNvSpPr/>
          <p:nvPr/>
        </p:nvSpPr>
        <p:spPr>
          <a:xfrm>
            <a:off x="500040" y="1989000"/>
            <a:ext cx="846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</a:rPr>
              <a:t>胸廓：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桶状、肋骨平、膈肌高、胸腔小、呼吸肌弱、纵隔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042920" y="907560"/>
            <a:ext cx="7718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史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社会状况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低效性呼吸型态 与支气管痉挛、黏膜水肿及支气管分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泌物增加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理呼吸道无效 与呼吸道分泌物黏稠，体弱无力排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：呼吸衰竭、心力衰竭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焦虑  与呼吸困难、环境改变、哮喘反复发作有 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知识缺乏  患儿及家长缺乏有关哮喘的防护知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般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351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对症护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置患儿于舒适坐位、半卧位或抬高头肩，指导和鼓励患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儿做深而慢的呼吸运动，改善呼吸困难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鼻导管或面罩吸氧，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L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／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min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流量持续吸氧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注意湿化氧气，定时进行动脉血气分析，及时调整氧流量，使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a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90mmHg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给予雾化吸入、胸部叩击，以促进分泌物的排出，也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采用体位引流以协助患儿排痰，必要时吸痰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楷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遵医嘱给予支气管扩张剂和肾上腺皮质激素，注意观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效和副作用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459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患儿及家长识别并避免诱发哮喘的因素，如花粉、粉尘、鱼虾、寒冷刺激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强体质，预防呼吸道感染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正确用药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并鼓励做呼吸功能锻炼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提供出院时需要使用的药物资料，如服药方法、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事项、不良反应等，强调坚持门诊随访的重要性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0" dur="indefinite" restart="never" nodeType="tmRoot">
          <p:childTnLst>
            <p:seq>
              <p:cTn id="1361" dur="indefinite" nodeType="mainSeq">
                <p:childTnLst>
                  <p:par>
                    <p:cTn id="1362" nodeType="clickEffect" fill="hold">
                      <p:stCondLst>
                        <p:cond delay="indefinite"/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5105520" y="6476760"/>
            <a:ext cx="396216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0" name="Rectangle 5"/>
          <p:cNvSpPr/>
          <p:nvPr/>
        </p:nvSpPr>
        <p:spPr>
          <a:xfrm>
            <a:off x="1403280" y="1557360"/>
            <a:ext cx="1152720" cy="503280"/>
          </a:xfrm>
          <a:prstGeom prst="rect">
            <a:avLst/>
          </a:prstGeom>
          <a:solidFill>
            <a:srgbClr val="dcdcdc"/>
          </a:solidFill>
          <a:ln w="936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1" name="Rectangle 6"/>
          <p:cNvSpPr/>
          <p:nvPr/>
        </p:nvSpPr>
        <p:spPr>
          <a:xfrm>
            <a:off x="6659640" y="6381720"/>
            <a:ext cx="24843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2" name="Text Box 7"/>
          <p:cNvSpPr/>
          <p:nvPr/>
        </p:nvSpPr>
        <p:spPr>
          <a:xfrm>
            <a:off x="0" y="549360"/>
            <a:ext cx="53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Thank you for your attention!</a:t>
            </a:r>
            <a:endParaRPr b="0" lang="en-US" sz="4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1073" name="图片 5" descr=""/>
          <p:cNvPicPr/>
          <p:nvPr/>
        </p:nvPicPr>
        <p:blipFill>
          <a:blip r:embed="rId1"/>
          <a:stretch/>
        </p:blipFill>
        <p:spPr>
          <a:xfrm>
            <a:off x="6659640" y="0"/>
            <a:ext cx="248436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042560" y="1196640"/>
            <a:ext cx="699156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频率节律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龄越小频率越大，易节律不齐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呼吸型态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腹膈式呼吸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呼吸功能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各项指标储备力低、气道阻力大。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7" name="TextBox 4"/>
          <p:cNvSpPr/>
          <p:nvPr/>
        </p:nvSpPr>
        <p:spPr>
          <a:xfrm>
            <a:off x="900000" y="189000"/>
            <a:ext cx="2448000" cy="5814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</a:rPr>
              <a:t>生理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/>
          </p:nvPr>
        </p:nvSpPr>
        <p:spPr>
          <a:xfrm>
            <a:off x="571320" y="1499760"/>
            <a:ext cx="81039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特异性、非特异性免疫功能均差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反射弱、平滑肌薄、纤毛运动差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SIgA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G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亚类含量低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巨噬细胞、乳铁蛋白、溶菌酶、干扰素、补体等均不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TextBox 5"/>
          <p:cNvSpPr/>
          <p:nvPr/>
        </p:nvSpPr>
        <p:spPr>
          <a:xfrm>
            <a:off x="1042920" y="189000"/>
            <a:ext cx="2233800" cy="58140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Times New Roman"/>
              </a:rPr>
              <a:t>免疫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1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2376360" cy="5760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85880" y="155736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体格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血气分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肺影像学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支气管镜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肺功能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2592360" cy="5760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6" name="TextBox 4"/>
          <p:cNvSpPr/>
          <p:nvPr/>
        </p:nvSpPr>
        <p:spPr>
          <a:xfrm>
            <a:off x="971640" y="1571760"/>
            <a:ext cx="6458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体格检查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呼吸频率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发绀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吸气时胸廓凹陷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吸气喘鸣、呼气喘息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肺部体征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其他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1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2303640" cy="647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TextBox 4"/>
          <p:cNvSpPr/>
          <p:nvPr/>
        </p:nvSpPr>
        <p:spPr>
          <a:xfrm>
            <a:off x="2411280" y="1125360"/>
            <a:ext cx="41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楷体"/>
              </a:rPr>
              <a:t>小儿血气分析正常值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324000" y="2421000"/>
          <a:ext cx="8643960" cy="3892320"/>
        </p:xfrm>
        <a:graphic>
          <a:graphicData uri="http://schemas.openxmlformats.org/drawingml/2006/table">
            <a:tbl>
              <a:tblPr/>
              <a:tblGrid>
                <a:gridCol w="1726920"/>
                <a:gridCol w="2376720"/>
                <a:gridCol w="2379600"/>
                <a:gridCol w="2160720"/>
              </a:tblGrid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项 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新  生 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&gt;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a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aC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HC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a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0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6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5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7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5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7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721" name="直接连接符 8"/>
          <p:cNvSpPr/>
          <p:nvPr/>
        </p:nvSpPr>
        <p:spPr>
          <a:xfrm>
            <a:off x="214200" y="5429160"/>
            <a:ext cx="8643960" cy="0"/>
          </a:xfrm>
          <a:prstGeom prst="line">
            <a:avLst/>
          </a:prstGeom>
          <a:ln w="9360">
            <a:solidFill>
              <a:srgbClr val="97ba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3663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第二节  急性上呼吸道感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26560" y="1773360"/>
            <a:ext cx="8077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上呼吸道感染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cute upper respiratory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nfec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简称上感，“感冒”。小儿最常见疾病。主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指鼻、鼻咽和咽部的急性感染。病原体主要侵犯鼻、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扁桃体、及喉部引起的炎症。急性鼻炎、鼻窦炎，急性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炎、急性扁桃体炎、急性喉炎等。冬春季多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748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感染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＞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90%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呼吸道合胞病毒、流感病毒、副流感病毒、腺病毒、鼻病毒、柯萨奇病毒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感染：多继发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溶血性链球菌、肺炎球菌、流感嗜血杆菌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炎支原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6"/>
          <p:cNvSpPr/>
          <p:nvPr/>
        </p:nvSpPr>
        <p:spPr>
          <a:xfrm>
            <a:off x="1116000" y="189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病 因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2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258560" y="198360"/>
            <a:ext cx="6132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 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防御机能低：解剖生理和免疫特点，营养不良、佝偻病、贫血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环境因素：通风不良，室内空气污染、冷热失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护理不当：受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1332000" y="1447920"/>
            <a:ext cx="73454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类型上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两种特殊类型上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80000"/>
              </a:lnSpc>
              <a:spcBef>
                <a:spcPts val="601"/>
              </a:spcBef>
              <a:buClr>
                <a:srgbClr val="d1b6dc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疱疹性咽峡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80000"/>
              </a:lnSpc>
              <a:spcBef>
                <a:spcPts val="601"/>
              </a:spcBef>
              <a:buClr>
                <a:srgbClr val="d1b6dc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6"/>
          <p:cNvSpPr/>
          <p:nvPr/>
        </p:nvSpPr>
        <p:spPr>
          <a:xfrm>
            <a:off x="1187280" y="1890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 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3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页脚占位符 4"/>
          <p:cNvSpPr/>
          <p:nvPr/>
        </p:nvSpPr>
        <p:spPr>
          <a:xfrm>
            <a:off x="6232680" y="6546960"/>
            <a:ext cx="2082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0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1" name="Rectangle 49"/>
          <p:cNvSpPr/>
          <p:nvPr/>
        </p:nvSpPr>
        <p:spPr>
          <a:xfrm>
            <a:off x="6227640" y="6381720"/>
            <a:ext cx="29163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2" name="Text Box 51"/>
          <p:cNvSpPr/>
          <p:nvPr/>
        </p:nvSpPr>
        <p:spPr>
          <a:xfrm>
            <a:off x="1258920" y="112536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ee08e"/>
                </a:solidFill>
                <a:latin typeface="宋体"/>
                <a:ea typeface="宋体"/>
              </a:rPr>
              <a:t>一、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73" name="图片 1" descr=""/>
          <p:cNvPicPr/>
          <p:nvPr/>
        </p:nvPicPr>
        <p:blipFill>
          <a:blip r:embed="rId1"/>
          <a:stretch/>
        </p:blipFill>
        <p:spPr>
          <a:xfrm>
            <a:off x="6176880" y="0"/>
            <a:ext cx="2967120" cy="905040"/>
          </a:xfrm>
          <a:prstGeom prst="rect">
            <a:avLst/>
          </a:prstGeom>
          <a:ln w="0">
            <a:noFill/>
          </a:ln>
        </p:spPr>
      </p:pic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194472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8281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识记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出不同病原体所致肺炎的特点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阐述支气管肺炎和支气管哮喘的临床表现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出定义：疱疹性咽峡炎、咽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、咳嗽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变异性哮喘、哮喘持续状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理解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复述小儿呼吸系统的解剖、生理及免疫特点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明支气管肺炎的病理生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解释支气管肺炎、支气管哮喘护理措施的依据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运用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应用护理程序对支气管肺炎、支气管哮喘患儿实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施护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对长期吸入治疗的支气管哮喘患儿进行用药指导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178920" y="1628640"/>
            <a:ext cx="8534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症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局部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全身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体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3"/>
          <p:cNvSpPr/>
          <p:nvPr/>
        </p:nvSpPr>
        <p:spPr>
          <a:xfrm>
            <a:off x="684360" y="189000"/>
            <a:ext cx="50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 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（一般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3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79581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疱疹性咽峡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病原体：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柯萨奇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A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组病毒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引起，好发于夏秋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表现：急起高热、咽痛、流涎、厌食、呕吐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体检：咽充血，咽腭弓、腭垂、软腭有疱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病程：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6"/>
          <p:cNvSpPr/>
          <p:nvPr/>
        </p:nvSpPr>
        <p:spPr>
          <a:xfrm>
            <a:off x="684360" y="189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r>
              <a:rPr b="1" lang="en-US" sz="3200" spc="-1" strike="noStrike">
                <a:solidFill>
                  <a:srgbClr val="333399"/>
                </a:solidFill>
                <a:latin typeface="楷体"/>
              </a:rPr>
              <a:t>(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特殊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96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原体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腺病毒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型）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多发于春夏季，可流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特征性表现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发热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咽炎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结合膜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临床表现：高热、咽痛、眼部刺痛、有时伴有消化道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格检查：咽部充血、白色点块状分泌物，周边无红晕，易于剥离，一侧或双侧滤泡性眼结合膜炎，可伴球结膜出血颈后及耳后淋巴结肿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程：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6"/>
          <p:cNvSpPr/>
          <p:nvPr/>
        </p:nvSpPr>
        <p:spPr>
          <a:xfrm>
            <a:off x="684360" y="189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（特殊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/>
          </p:nvPr>
        </p:nvSpPr>
        <p:spPr>
          <a:xfrm>
            <a:off x="-181080" y="1371600"/>
            <a:ext cx="907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婴幼儿多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向邻近器官组织蔓延：可引起中耳炎、鼻窦炎、咽后壁脓肿、扁桃体周围脓肿、颈淋巴结炎、喉炎、支气管炎及肺炎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免疫损伤：可引起急性肾小球肾炎和风湿热、类风湿等结缔组织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4"/>
          <p:cNvSpPr/>
          <p:nvPr/>
        </p:nvSpPr>
        <p:spPr>
          <a:xfrm>
            <a:off x="684360" y="189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并发症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1042920" y="1447920"/>
            <a:ext cx="7632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一般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对症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抗感染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Line 4"/>
          <p:cNvSpPr/>
          <p:nvPr/>
        </p:nvSpPr>
        <p:spPr>
          <a:xfrm>
            <a:off x="5029200" y="4876920"/>
            <a:ext cx="609480" cy="0"/>
          </a:xfrm>
          <a:prstGeom prst="line">
            <a:avLst/>
          </a:prstGeom>
          <a:ln w="9360">
            <a:solidFill>
              <a:srgbClr val="eee08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49" name="Text Box 7"/>
          <p:cNvSpPr/>
          <p:nvPr/>
        </p:nvSpPr>
        <p:spPr>
          <a:xfrm>
            <a:off x="684360" y="189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治疗要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6553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716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                                                               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Rectangle 5"/>
          <p:cNvSpPr/>
          <p:nvPr/>
        </p:nvSpPr>
        <p:spPr>
          <a:xfrm>
            <a:off x="1116000" y="1876680"/>
            <a:ext cx="6551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健康史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身体状况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心理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社会状况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755280" y="1915920"/>
            <a:ext cx="83883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温过高  与上呼吸道感染有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疼痛：头痛或咽痛  与发热及咽部炎症有关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：惊厥、中耳炎、肾炎或风湿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6"/>
          <p:cNvSpPr/>
          <p:nvPr/>
        </p:nvSpPr>
        <p:spPr>
          <a:xfrm>
            <a:off x="6624720" y="260280"/>
            <a:ext cx="611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57" name="Text Box 7"/>
          <p:cNvSpPr/>
          <p:nvPr/>
        </p:nvSpPr>
        <p:spPr>
          <a:xfrm>
            <a:off x="755640" y="1890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诊断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6043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状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发热的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鼻塞的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咽痛的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7"/>
          <p:cNvSpPr/>
          <p:nvPr/>
        </p:nvSpPr>
        <p:spPr>
          <a:xfrm>
            <a:off x="684360" y="18900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措施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934560" y="1412640"/>
            <a:ext cx="82090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警惕热性惊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预防并发症：黏膜皮肤有无皮疹、神经系统症状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传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后壁脓肿时，防止破溃后引起的窒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7"/>
          <p:cNvSpPr/>
          <p:nvPr/>
        </p:nvSpPr>
        <p:spPr>
          <a:xfrm>
            <a:off x="684360" y="189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1042920" y="1052280"/>
            <a:ext cx="7416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用药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使用退热剂后应注意多饮水，以防大量出汗引起虚脱，如有虚脱现象，应给予保暖、饮热水，严重者给予静脉输液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热性惊厥的患儿使用镇静剂时，应注意观察止惊的效果及药物的不良反应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使用青霉素等抗生素时，应注意观察有无过敏反应发生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Text Box 3"/>
          <p:cNvSpPr/>
          <p:nvPr/>
        </p:nvSpPr>
        <p:spPr>
          <a:xfrm>
            <a:off x="684360" y="189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416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第一节  小儿呼吸系统解剖生理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042920" y="1557000"/>
            <a:ext cx="74152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剖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理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吸道免疫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检查方法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8077320" cy="540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居室要经常通风，防止被动吸烟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集体小儿机构中隔离患儿，食醋熏蒸消毒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避免去人多的公共场所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合理饮食起居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母乳喂养，加强体格锻炼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及时增减衣服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积极防治营养不良、佝偻病、贫血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三节  急性支气管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8317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急性支气管炎（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acute bronchitis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指由各种病原体引起的支气管黏膜的炎症，由于气管常同时受累，故又称为急性气管支气管炎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cute tracheo-bronchitis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。常继发于急性上呼吸道感染，或为某些急性传染病临床表现的一部分。婴幼儿多见，且症状较重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感染  主要原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环境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免疫功能低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特异性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 Box 5"/>
          <p:cNvSpPr/>
          <p:nvPr/>
        </p:nvSpPr>
        <p:spPr>
          <a:xfrm>
            <a:off x="4427640" y="260280"/>
            <a:ext cx="2449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76" name="Text Box 6"/>
          <p:cNvSpPr/>
          <p:nvPr/>
        </p:nvSpPr>
        <p:spPr>
          <a:xfrm>
            <a:off x="684360" y="18900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病因及发病机制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7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大多先有上呼吸道感染症状，之后以咳嗽为主要症状，开始为干咳，以后渐有支气管分泌物而为有痰的咳嗽。婴幼儿症状较重，常有发热及呕吐、腹泻、腹痛等消化道症状，不会咳痰，多经咽部咽下。年长儿一般全身症状不明显，发热可有可无，可诉头痛及胸痛。肺部听诊双肺呼吸音粗，可闻及不固定的散在的干湿啰音和大、中水泡音。急性症状一般持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，有时迁延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或反复发作。如不经适当治疗可引起肺炎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Text Box 5"/>
          <p:cNvSpPr/>
          <p:nvPr/>
        </p:nvSpPr>
        <p:spPr>
          <a:xfrm>
            <a:off x="684360" y="189000"/>
            <a:ext cx="1944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显示正常或肺纹理增粗，肺门阴影增深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684360" y="189000"/>
            <a:ext cx="1944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胸部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线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5" descr="t49702.gif (16165 bytes)"/>
          <p:cNvPicPr/>
          <p:nvPr/>
        </p:nvPicPr>
        <p:blipFill>
          <a:blip r:embed="rId2"/>
          <a:stretch/>
        </p:blipFill>
        <p:spPr>
          <a:xfrm>
            <a:off x="5867280" y="3124080"/>
            <a:ext cx="327672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826560" y="1600200"/>
            <a:ext cx="7201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治疗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控制感染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对症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Text Box 3"/>
          <p:cNvSpPr/>
          <p:nvPr/>
        </p:nvSpPr>
        <p:spPr>
          <a:xfrm>
            <a:off x="684360" y="189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治疗要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健康史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心理、社会状况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Text Box 3"/>
          <p:cNvSpPr/>
          <p:nvPr/>
        </p:nvSpPr>
        <p:spPr>
          <a:xfrm>
            <a:off x="684360" y="189000"/>
            <a:ext cx="1944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9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/>
          </p:nvPr>
        </p:nvSpPr>
        <p:spPr>
          <a:xfrm>
            <a:off x="826560" y="1915920"/>
            <a:ext cx="80773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体温过高  与病毒或细菌感染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清理呼吸道无效  与痰液黏稠不易咳出，气道分泌物堆积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Text Box 3"/>
          <p:cNvSpPr/>
          <p:nvPr/>
        </p:nvSpPr>
        <p:spPr>
          <a:xfrm>
            <a:off x="684360" y="189000"/>
            <a:ext cx="1944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9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般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休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证充足的水分及营养供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口腔清洁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保持呼吸道通畅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用药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6"/>
          <p:cNvSpPr/>
          <p:nvPr/>
        </p:nvSpPr>
        <p:spPr>
          <a:xfrm>
            <a:off x="684360" y="1890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四节   肺炎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076960" cy="47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肺炎（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pneumonia</a:t>
            </a: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是由不同病原体或其他因素（吸入羊水、过敏等）所致的肺部炎症，以发热、咳嗽、气促、呼吸困难和肺部固定湿啰音为主要表现。肺炎为儿科常见病，尤其多见于婴幼儿，也是婴儿时期主要死亡原因，严重影响小儿健康，被卫计委列为小儿四病防治之一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3" descr="HX"/>
          <p:cNvPicPr/>
          <p:nvPr/>
        </p:nvPicPr>
        <p:blipFill>
          <a:blip r:embed="rId1"/>
          <a:stretch/>
        </p:blipFill>
        <p:spPr>
          <a:xfrm>
            <a:off x="3989520" y="907920"/>
            <a:ext cx="5154480" cy="595008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4" descr="肺部解剖2"/>
          <p:cNvPicPr/>
          <p:nvPr/>
        </p:nvPicPr>
        <p:blipFill>
          <a:blip r:embed="rId2"/>
          <a:stretch/>
        </p:blipFill>
        <p:spPr>
          <a:xfrm>
            <a:off x="900000" y="2781360"/>
            <a:ext cx="3124440" cy="2811240"/>
          </a:xfrm>
          <a:prstGeom prst="rect">
            <a:avLst/>
          </a:prstGeom>
          <a:ln w="0">
            <a:noFill/>
          </a:ln>
        </p:spPr>
      </p:pic>
      <p:sp>
        <p:nvSpPr>
          <p:cNvPr id="681" name="Line 5"/>
          <p:cNvSpPr/>
          <p:nvPr/>
        </p:nvSpPr>
        <p:spPr>
          <a:xfrm>
            <a:off x="4495680" y="228600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2" name="Text Box 8"/>
          <p:cNvSpPr/>
          <p:nvPr/>
        </p:nvSpPr>
        <p:spPr>
          <a:xfrm>
            <a:off x="395280" y="189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</a:rPr>
              <a:t>解剖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83" name="图片 1" descr=""/>
          <p:cNvPicPr/>
          <p:nvPr/>
        </p:nvPicPr>
        <p:blipFill>
          <a:blip r:embed="rId3"/>
          <a:stretch/>
        </p:blipFill>
        <p:spPr>
          <a:xfrm>
            <a:off x="6537240" y="0"/>
            <a:ext cx="2606760" cy="9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4"/>
          <p:cNvSpPr/>
          <p:nvPr/>
        </p:nvSpPr>
        <p:spPr>
          <a:xfrm>
            <a:off x="1116000" y="3716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因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1" name="AutoShape 6"/>
          <p:cNvSpPr/>
          <p:nvPr/>
        </p:nvSpPr>
        <p:spPr>
          <a:xfrm>
            <a:off x="2268360" y="2349360"/>
            <a:ext cx="425520" cy="3168720"/>
          </a:xfrm>
          <a:custGeom>
            <a:avLst/>
            <a:gdLst>
              <a:gd name="textAreaLeft" fmla="*/ 271800 w 425520"/>
              <a:gd name="textAreaRight" fmla="*/ 425880 w 42552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60"/>
                </a:lnTo>
                <a:cubicBezTo>
                  <a:pt x="10800" y="10360"/>
                  <a:pt x="5400" y="11260"/>
                  <a:pt x="0" y="11260"/>
                </a:cubicBezTo>
                <a:cubicBezTo>
                  <a:pt x="5400" y="11260"/>
                  <a:pt x="10800" y="12160"/>
                  <a:pt x="10800" y="130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2" name="Text Box 8"/>
          <p:cNvSpPr/>
          <p:nvPr/>
        </p:nvSpPr>
        <p:spPr>
          <a:xfrm>
            <a:off x="2771640" y="2133720"/>
            <a:ext cx="46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毒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3" name="Text Box 9"/>
          <p:cNvSpPr/>
          <p:nvPr/>
        </p:nvSpPr>
        <p:spPr>
          <a:xfrm>
            <a:off x="2771640" y="2781360"/>
            <a:ext cx="46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细菌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4" name="Text Box 10"/>
          <p:cNvSpPr/>
          <p:nvPr/>
        </p:nvSpPr>
        <p:spPr>
          <a:xfrm>
            <a:off x="2771640" y="3357720"/>
            <a:ext cx="56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支原体、衣原体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5" name="Text Box 11"/>
          <p:cNvSpPr/>
          <p:nvPr/>
        </p:nvSpPr>
        <p:spPr>
          <a:xfrm>
            <a:off x="2700360" y="3933720"/>
            <a:ext cx="58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真菌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6" name="Text Box 12"/>
          <p:cNvSpPr/>
          <p:nvPr/>
        </p:nvSpPr>
        <p:spPr>
          <a:xfrm>
            <a:off x="2700360" y="4581360"/>
            <a:ext cx="5835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吸入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过敏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7" name="Text Box 35"/>
          <p:cNvSpPr/>
          <p:nvPr/>
        </p:nvSpPr>
        <p:spPr>
          <a:xfrm>
            <a:off x="755640" y="189000"/>
            <a:ext cx="20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2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ext Box 16"/>
          <p:cNvSpPr/>
          <p:nvPr/>
        </p:nvSpPr>
        <p:spPr>
          <a:xfrm>
            <a:off x="1547640" y="3357720"/>
            <a:ext cx="106704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程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0" name="AutoShape 17"/>
          <p:cNvSpPr/>
          <p:nvPr/>
        </p:nvSpPr>
        <p:spPr>
          <a:xfrm>
            <a:off x="2556000" y="2708280"/>
            <a:ext cx="287280" cy="1800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1" name="Text Box 18"/>
          <p:cNvSpPr/>
          <p:nvPr/>
        </p:nvSpPr>
        <p:spPr>
          <a:xfrm>
            <a:off x="2843280" y="249228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急性肺炎：病程＜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2" name="Text Box 19"/>
          <p:cNvSpPr/>
          <p:nvPr/>
        </p:nvSpPr>
        <p:spPr>
          <a:xfrm>
            <a:off x="2916360" y="335772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迁延性肺炎：病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3" name="Text Box 20"/>
          <p:cNvSpPr/>
          <p:nvPr/>
        </p:nvSpPr>
        <p:spPr>
          <a:xfrm>
            <a:off x="2987640" y="4149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慢性肺炎：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4" name="Text Box 32"/>
          <p:cNvSpPr/>
          <p:nvPr/>
        </p:nvSpPr>
        <p:spPr>
          <a:xfrm>
            <a:off x="684360" y="189000"/>
            <a:ext cx="150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1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 Box 5"/>
          <p:cNvSpPr/>
          <p:nvPr/>
        </p:nvSpPr>
        <p:spPr>
          <a:xfrm>
            <a:off x="755640" y="3933720"/>
            <a:ext cx="127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理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7" name="AutoShape 7"/>
          <p:cNvSpPr/>
          <p:nvPr/>
        </p:nvSpPr>
        <p:spPr>
          <a:xfrm>
            <a:off x="1979640" y="2997360"/>
            <a:ext cx="431640" cy="2376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8" name="Text Box 13"/>
          <p:cNvSpPr/>
          <p:nvPr/>
        </p:nvSpPr>
        <p:spPr>
          <a:xfrm>
            <a:off x="2411280" y="270828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支气管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9" name="Text Box 14"/>
          <p:cNvSpPr/>
          <p:nvPr/>
        </p:nvSpPr>
        <p:spPr>
          <a:xfrm>
            <a:off x="2340000" y="3860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大叶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2411280" y="5084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间质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1" name="Text Box 30"/>
          <p:cNvSpPr/>
          <p:nvPr/>
        </p:nvSpPr>
        <p:spPr>
          <a:xfrm>
            <a:off x="684360" y="189000"/>
            <a:ext cx="152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6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6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21"/>
          <p:cNvSpPr/>
          <p:nvPr/>
        </p:nvSpPr>
        <p:spPr>
          <a:xfrm flipH="1">
            <a:off x="1259640" y="25653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 情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4" name="AutoShape 22"/>
          <p:cNvSpPr/>
          <p:nvPr/>
        </p:nvSpPr>
        <p:spPr>
          <a:xfrm>
            <a:off x="2268360" y="2276640"/>
            <a:ext cx="503280" cy="1081080"/>
          </a:xfrm>
          <a:custGeom>
            <a:avLst/>
            <a:gdLst>
              <a:gd name="textAreaLeft" fmla="*/ 321480 w 503280"/>
              <a:gd name="textAreaRight" fmla="*/ 503640 w 5032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5" name="Text Box 23"/>
          <p:cNvSpPr/>
          <p:nvPr/>
        </p:nvSpPr>
        <p:spPr>
          <a:xfrm>
            <a:off x="2700360" y="21337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轻症肺炎：主要为呼吸系统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6" name="Text Box 24"/>
          <p:cNvSpPr/>
          <p:nvPr/>
        </p:nvSpPr>
        <p:spPr>
          <a:xfrm>
            <a:off x="2771640" y="3068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重症肺炎：全身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7" name="Rectangle 25"/>
          <p:cNvSpPr/>
          <p:nvPr/>
        </p:nvSpPr>
        <p:spPr>
          <a:xfrm>
            <a:off x="900000" y="479736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临床表现是否典型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8" name="Rectangle 26"/>
          <p:cNvSpPr/>
          <p:nvPr/>
        </p:nvSpPr>
        <p:spPr>
          <a:xfrm>
            <a:off x="4356000" y="41371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典型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9" name="Rectangle 27"/>
          <p:cNvSpPr/>
          <p:nvPr/>
        </p:nvSpPr>
        <p:spPr>
          <a:xfrm>
            <a:off x="4356000" y="5516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非典型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0" name="AutoShape 28"/>
          <p:cNvSpPr/>
          <p:nvPr/>
        </p:nvSpPr>
        <p:spPr>
          <a:xfrm>
            <a:off x="3708360" y="4365720"/>
            <a:ext cx="503280" cy="1439640"/>
          </a:xfrm>
          <a:custGeom>
            <a:avLst/>
            <a:gdLst>
              <a:gd name="textAreaLeft" fmla="*/ 321480 w 503280"/>
              <a:gd name="textAreaRight" fmla="*/ 503640 w 50328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1" name="Text Box 30"/>
          <p:cNvSpPr/>
          <p:nvPr/>
        </p:nvSpPr>
        <p:spPr>
          <a:xfrm>
            <a:off x="755640" y="189000"/>
            <a:ext cx="152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3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3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8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3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8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4" name="AutoShape 4"/>
          <p:cNvSpPr/>
          <p:nvPr/>
        </p:nvSpPr>
        <p:spPr>
          <a:xfrm>
            <a:off x="3276720" y="2708280"/>
            <a:ext cx="431640" cy="25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5" name="Rectangle 5"/>
          <p:cNvSpPr/>
          <p:nvPr/>
        </p:nvSpPr>
        <p:spPr>
          <a:xfrm>
            <a:off x="1042920" y="366948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</a:rPr>
              <a:t>按发生地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6" name="Text Box 7"/>
          <p:cNvSpPr/>
          <p:nvPr/>
        </p:nvSpPr>
        <p:spPr>
          <a:xfrm>
            <a:off x="3780000" y="2492280"/>
            <a:ext cx="22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社区获得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7" name="Rectangle 8"/>
          <p:cNvSpPr/>
          <p:nvPr/>
        </p:nvSpPr>
        <p:spPr>
          <a:xfrm>
            <a:off x="4044960" y="4985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院内获得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支气管肺炎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bronchopneumonia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569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小儿时期最常见的肺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年四季均可发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低出生体重、营养不良、维生素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缺乏、先天性心脏病易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-324000" y="1371600"/>
            <a:ext cx="946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病原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要为病毒和细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（发达国家）：呼吸道合胞病毒、腺病毒、流感病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（发展中国家）：肺炎链球菌、葡萄球菌、链球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原体、衣原体等引起的肺炎呈上升趋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真菌及卡氏肺孢子虫易感染早产儿、艾滋病等患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812664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机体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呼吸系统解剖、生理、免疫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年龄及营养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28180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疾病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重度佝偻病、接受化疗、放疗、免疫抑制治疗的小儿或原发性免疫缺陷小儿易患肺炎，易致重型肺炎。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环境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2" name="Text Box 4"/>
          <p:cNvSpPr/>
          <p:nvPr/>
        </p:nvSpPr>
        <p:spPr>
          <a:xfrm>
            <a:off x="3240" y="3141720"/>
            <a:ext cx="5461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原菌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3" name="Line 5"/>
          <p:cNvSpPr/>
          <p:nvPr/>
        </p:nvSpPr>
        <p:spPr>
          <a:xfrm>
            <a:off x="685800" y="3701880"/>
            <a:ext cx="76212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4" name="Text Box 6"/>
          <p:cNvSpPr/>
          <p:nvPr/>
        </p:nvSpPr>
        <p:spPr>
          <a:xfrm>
            <a:off x="324000" y="328464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呼吸道大多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5" name="Text Box 7"/>
          <p:cNvSpPr/>
          <p:nvPr/>
        </p:nvSpPr>
        <p:spPr>
          <a:xfrm>
            <a:off x="395280" y="378936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少数血行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6" name="Text Box 8"/>
          <p:cNvSpPr/>
          <p:nvPr/>
        </p:nvSpPr>
        <p:spPr>
          <a:xfrm>
            <a:off x="1371600" y="3473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肺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7" name="Line 9"/>
          <p:cNvSpPr/>
          <p:nvPr/>
        </p:nvSpPr>
        <p:spPr>
          <a:xfrm flipV="1">
            <a:off x="1676520" y="3244320"/>
            <a:ext cx="380880" cy="3812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8" name="Line 10"/>
          <p:cNvSpPr/>
          <p:nvPr/>
        </p:nvSpPr>
        <p:spPr>
          <a:xfrm>
            <a:off x="1676520" y="3701880"/>
            <a:ext cx="38088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9" name="Line 11"/>
          <p:cNvSpPr/>
          <p:nvPr/>
        </p:nvSpPr>
        <p:spPr>
          <a:xfrm>
            <a:off x="1676520" y="3778200"/>
            <a:ext cx="380880" cy="3808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0" name="Text Box 12"/>
          <p:cNvSpPr/>
          <p:nvPr/>
        </p:nvSpPr>
        <p:spPr>
          <a:xfrm>
            <a:off x="1905120" y="2971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小支气管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1" name="Text Box 13"/>
          <p:cNvSpPr/>
          <p:nvPr/>
        </p:nvSpPr>
        <p:spPr>
          <a:xfrm>
            <a:off x="1981080" y="3473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肺泡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1981080" y="39304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肺间质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3" name="Line 15"/>
          <p:cNvSpPr/>
          <p:nvPr/>
        </p:nvSpPr>
        <p:spPr>
          <a:xfrm>
            <a:off x="2971800" y="3244680"/>
            <a:ext cx="22860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4" name="Line 16"/>
          <p:cNvSpPr/>
          <p:nvPr/>
        </p:nvSpPr>
        <p:spPr>
          <a:xfrm flipV="1">
            <a:off x="2819520" y="4006440"/>
            <a:ext cx="380880" cy="1522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5" name="Line 17"/>
          <p:cNvSpPr/>
          <p:nvPr/>
        </p:nvSpPr>
        <p:spPr>
          <a:xfrm>
            <a:off x="2627280" y="3716280"/>
            <a:ext cx="57636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6" name="Text Box 18"/>
          <p:cNvSpPr/>
          <p:nvPr/>
        </p:nvSpPr>
        <p:spPr>
          <a:xfrm>
            <a:off x="3124080" y="3259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通气障碍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7" name="Text Box 19"/>
          <p:cNvSpPr/>
          <p:nvPr/>
        </p:nvSpPr>
        <p:spPr>
          <a:xfrm>
            <a:off x="3132000" y="37162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换气障碍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8" name="Line 20"/>
          <p:cNvSpPr/>
          <p:nvPr/>
        </p:nvSpPr>
        <p:spPr>
          <a:xfrm>
            <a:off x="4114800" y="3473280"/>
            <a:ext cx="30492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9" name="Line 21"/>
          <p:cNvSpPr/>
          <p:nvPr/>
        </p:nvSpPr>
        <p:spPr>
          <a:xfrm flipV="1">
            <a:off x="4114800" y="3701520"/>
            <a:ext cx="30492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0" name="Text Box 22"/>
          <p:cNvSpPr/>
          <p:nvPr/>
        </p:nvSpPr>
        <p:spPr>
          <a:xfrm>
            <a:off x="4219920" y="2852640"/>
            <a:ext cx="7347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缺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二氧化碳潴留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1" name="Line 23"/>
          <p:cNvSpPr/>
          <p:nvPr/>
        </p:nvSpPr>
        <p:spPr>
          <a:xfrm flipV="1">
            <a:off x="4952880" y="2939760"/>
            <a:ext cx="304920" cy="6094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2" name="Line 24"/>
          <p:cNvSpPr/>
          <p:nvPr/>
        </p:nvSpPr>
        <p:spPr>
          <a:xfrm flipV="1">
            <a:off x="5029200" y="3473280"/>
            <a:ext cx="304920" cy="1526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3" name="Line 25"/>
          <p:cNvSpPr/>
          <p:nvPr/>
        </p:nvSpPr>
        <p:spPr>
          <a:xfrm>
            <a:off x="5029200" y="3778200"/>
            <a:ext cx="304920" cy="1522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4" name="Line 26"/>
          <p:cNvSpPr/>
          <p:nvPr/>
        </p:nvSpPr>
        <p:spPr>
          <a:xfrm>
            <a:off x="4952880" y="3930480"/>
            <a:ext cx="381240" cy="5335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5" name="Text Box 27"/>
          <p:cNvSpPr/>
          <p:nvPr/>
        </p:nvSpPr>
        <p:spPr>
          <a:xfrm>
            <a:off x="5364000" y="2666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循环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6" name="Text Box 28"/>
          <p:cNvSpPr/>
          <p:nvPr/>
        </p:nvSpPr>
        <p:spPr>
          <a:xfrm>
            <a:off x="5257800" y="3244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中枢神经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7" name="Text Box 29"/>
          <p:cNvSpPr/>
          <p:nvPr/>
        </p:nvSpPr>
        <p:spPr>
          <a:xfrm>
            <a:off x="5257800" y="3778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8" name="Text Box 30"/>
          <p:cNvSpPr/>
          <p:nvPr/>
        </p:nvSpPr>
        <p:spPr>
          <a:xfrm>
            <a:off x="5257800" y="43117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水、电解质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9" name="AutoShape 31"/>
          <p:cNvSpPr/>
          <p:nvPr/>
        </p:nvSpPr>
        <p:spPr>
          <a:xfrm>
            <a:off x="6659640" y="2492280"/>
            <a:ext cx="75960" cy="60984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0" name="Text Box 32"/>
          <p:cNvSpPr/>
          <p:nvPr/>
        </p:nvSpPr>
        <p:spPr>
          <a:xfrm>
            <a:off x="6877080" y="227664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肺动脉高压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1" name="Text Box 33"/>
          <p:cNvSpPr/>
          <p:nvPr/>
        </p:nvSpPr>
        <p:spPr>
          <a:xfrm>
            <a:off x="6877080" y="2637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中毒性心肌炎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2" name="Text Box 34"/>
          <p:cNvSpPr/>
          <p:nvPr/>
        </p:nvSpPr>
        <p:spPr>
          <a:xfrm>
            <a:off x="6948360" y="292428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心力衰竭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3" name="Line 35"/>
          <p:cNvSpPr/>
          <p:nvPr/>
        </p:nvSpPr>
        <p:spPr>
          <a:xfrm>
            <a:off x="6781680" y="3473280"/>
            <a:ext cx="53352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4" name="Text Box 36"/>
          <p:cNvSpPr/>
          <p:nvPr/>
        </p:nvSpPr>
        <p:spPr>
          <a:xfrm>
            <a:off x="7308720" y="3357720"/>
            <a:ext cx="137160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脑水肿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中毒性脑病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5" name="Line 37"/>
          <p:cNvSpPr/>
          <p:nvPr/>
        </p:nvSpPr>
        <p:spPr>
          <a:xfrm>
            <a:off x="6248520" y="4006800"/>
            <a:ext cx="30456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6" name="Text Box 38"/>
          <p:cNvSpPr/>
          <p:nvPr/>
        </p:nvSpPr>
        <p:spPr>
          <a:xfrm>
            <a:off x="6477120" y="382284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功能紊乱、麻痹、出血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7" name="Line 39"/>
          <p:cNvSpPr/>
          <p:nvPr/>
        </p:nvSpPr>
        <p:spPr>
          <a:xfrm>
            <a:off x="6477120" y="4495680"/>
            <a:ext cx="38088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8" name="Text Box 40"/>
          <p:cNvSpPr/>
          <p:nvPr/>
        </p:nvSpPr>
        <p:spPr>
          <a:xfrm>
            <a:off x="6877080" y="42926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酸中毒、低钾性碱中毒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9" name="Text Box 41"/>
          <p:cNvSpPr/>
          <p:nvPr/>
        </p:nvSpPr>
        <p:spPr>
          <a:xfrm>
            <a:off x="2746800" y="4800600"/>
            <a:ext cx="109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呼吸增快心率增快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0" name="Line 42"/>
          <p:cNvSpPr/>
          <p:nvPr/>
        </p:nvSpPr>
        <p:spPr>
          <a:xfrm flipH="1">
            <a:off x="3809880" y="4343400"/>
            <a:ext cx="4572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91" name="Picture 43" descr="肺部解剖2"/>
          <p:cNvPicPr/>
          <p:nvPr/>
        </p:nvPicPr>
        <p:blipFill>
          <a:blip r:embed="rId1"/>
          <a:stretch/>
        </p:blipFill>
        <p:spPr>
          <a:xfrm>
            <a:off x="7894800" y="5734080"/>
            <a:ext cx="1249200" cy="1123920"/>
          </a:xfrm>
          <a:prstGeom prst="rect">
            <a:avLst/>
          </a:prstGeom>
          <a:ln w="0">
            <a:noFill/>
          </a:ln>
        </p:spPr>
      </p:pic>
      <p:sp>
        <p:nvSpPr>
          <p:cNvPr id="892" name="Text Box 44"/>
          <p:cNvSpPr/>
          <p:nvPr/>
        </p:nvSpPr>
        <p:spPr>
          <a:xfrm>
            <a:off x="4645080" y="5181480"/>
            <a:ext cx="186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鼻翼扇动三凹征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呼吸衰竭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3" name="Text Box 45"/>
          <p:cNvSpPr/>
          <p:nvPr/>
        </p:nvSpPr>
        <p:spPr>
          <a:xfrm>
            <a:off x="4038480" y="4800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呼吸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4" name="Line 46"/>
          <p:cNvSpPr/>
          <p:nvPr/>
        </p:nvSpPr>
        <p:spPr>
          <a:xfrm>
            <a:off x="4572000" y="4495680"/>
            <a:ext cx="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5" name="Line 47"/>
          <p:cNvSpPr/>
          <p:nvPr/>
        </p:nvSpPr>
        <p:spPr>
          <a:xfrm>
            <a:off x="4648320" y="5181480"/>
            <a:ext cx="60948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96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3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8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3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8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0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5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0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5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0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5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4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9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4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1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6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77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2" dur="770" fill="hold"/>
                                        <p:tgtEl>
                                          <p:spTgt spid="8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4" dur="77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6" dur="77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2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7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2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7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4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9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4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9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216864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5" name="TextBox 3"/>
          <p:cNvSpPr/>
          <p:nvPr/>
        </p:nvSpPr>
        <p:spPr>
          <a:xfrm>
            <a:off x="1692360" y="1341360"/>
            <a:ext cx="6572160" cy="453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鼻腔：短、狭、嫩、血管多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鼻窦：口大、上颌窦、筛窦易感染</a:t>
            </a:r>
            <a:r>
              <a:rPr b="0" lang="zh-CN" sz="2400" spc="-1" strike="noStrike" u="sng">
                <a:solidFill>
                  <a:srgbClr val="d1b6dc"/>
                </a:solidFill>
                <a:uFillTx/>
                <a:latin typeface="楷体"/>
                <a:hlinkClick r:id="rId1" action="ppaction://hlinksldjump"/>
              </a:rPr>
              <a:t>_x000b_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咽鼓管：宽、直、短、平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扁桃体：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喉 部：漏斗形、腔窄、声门裂相对窄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6" name="左大括号 5"/>
          <p:cNvSpPr/>
          <p:nvPr/>
        </p:nvSpPr>
        <p:spPr>
          <a:xfrm>
            <a:off x="1332000" y="1413000"/>
            <a:ext cx="431640" cy="4680000"/>
          </a:xfrm>
          <a:custGeom>
            <a:avLst/>
            <a:gdLst>
              <a:gd name="textAreaLeft" fmla="*/ 275760 w 431640"/>
              <a:gd name="textAreaRight" fmla="*/ 432000 w 431640"/>
              <a:gd name="textAreaTop" fmla="*/ 11160 h 4680000"/>
              <a:gd name="textAreaBottom" fmla="*/ 466884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"/>
                  <a:pt x="10800" y="166"/>
                </a:cubicBezTo>
                <a:lnTo>
                  <a:pt x="10800" y="10634"/>
                </a:lnTo>
                <a:cubicBezTo>
                  <a:pt x="10800" y="10717"/>
                  <a:pt x="5400" y="10800"/>
                  <a:pt x="0" y="10800"/>
                </a:cubicBezTo>
                <a:cubicBezTo>
                  <a:pt x="5400" y="10800"/>
                  <a:pt x="10800" y="10883"/>
                  <a:pt x="10800" y="10966"/>
                </a:cubicBezTo>
                <a:lnTo>
                  <a:pt x="10800" y="21434"/>
                </a:lnTo>
                <a:cubicBezTo>
                  <a:pt x="10800" y="2151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bdbc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7" name="TextBox 8"/>
          <p:cNvSpPr/>
          <p:nvPr/>
        </p:nvSpPr>
        <p:spPr>
          <a:xfrm>
            <a:off x="749160" y="3141720"/>
            <a:ext cx="54612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呼吸道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88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387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11280" y="980640"/>
            <a:ext cx="8208720" cy="57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轻症肺炎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状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全身症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征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加快，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鼻翼扇动、点头呼吸、三凹征、发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中、细湿啰音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1" name="Oval 3"/>
          <p:cNvSpPr/>
          <p:nvPr/>
        </p:nvSpPr>
        <p:spPr>
          <a:xfrm>
            <a:off x="1066680" y="2344680"/>
            <a:ext cx="228600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呼吸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2" name="Oval 4"/>
          <p:cNvSpPr/>
          <p:nvPr/>
        </p:nvSpPr>
        <p:spPr>
          <a:xfrm>
            <a:off x="5638680" y="2344680"/>
            <a:ext cx="2286000" cy="1295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循环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3" name="Oval 5"/>
          <p:cNvSpPr/>
          <p:nvPr/>
        </p:nvSpPr>
        <p:spPr>
          <a:xfrm>
            <a:off x="1357200" y="5105520"/>
            <a:ext cx="2286000" cy="12952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消化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4" name="Oval 6"/>
          <p:cNvSpPr/>
          <p:nvPr/>
        </p:nvSpPr>
        <p:spPr>
          <a:xfrm>
            <a:off x="5486400" y="4782960"/>
            <a:ext cx="2286000" cy="12956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神经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05" name="Picture 7" descr="fc_haien"/>
          <p:cNvPicPr/>
          <p:nvPr/>
        </p:nvPicPr>
        <p:blipFill>
          <a:blip r:embed="rId5"/>
          <a:stretch/>
        </p:blipFill>
        <p:spPr>
          <a:xfrm>
            <a:off x="3124080" y="2954160"/>
            <a:ext cx="2828880" cy="2506680"/>
          </a:xfrm>
          <a:prstGeom prst="rect">
            <a:avLst/>
          </a:prstGeom>
          <a:ln w="0">
            <a:noFill/>
          </a:ln>
        </p:spPr>
      </p:pic>
      <p:sp>
        <p:nvSpPr>
          <p:cNvPr id="906" name="Rectangle 8"/>
          <p:cNvSpPr/>
          <p:nvPr/>
        </p:nvSpPr>
        <p:spPr>
          <a:xfrm>
            <a:off x="826920" y="105264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重症肺炎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07" name="图片 1" descr=""/>
          <p:cNvPicPr/>
          <p:nvPr/>
        </p:nvPicPr>
        <p:blipFill>
          <a:blip r:embed="rId6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5472000" cy="10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循环系统：心肌炎、心力衰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肌炎：面色苍白、心动过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音低钝、心律不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920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心力衰竭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突然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心率突然婴儿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8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，幼儿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6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极度烦躁不安，明显发绀，面色苍白、发灰，指趾甲微血管再充盈时间延长。以上三项不能用发热、肺炎本身和其他并发症解释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心音低钝，奔马律、颈静脉怒张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肝迅速增大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尿少或无尿，眼睑或双下肢水肿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具备前五项就可诊断肺炎合并心力衰竭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-684360" y="2133360"/>
            <a:ext cx="9288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神经系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脑水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中毒性脑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-612720" y="1989000"/>
            <a:ext cx="712944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消化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食欲减退、呕吐、腹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中毒性肠麻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消化道出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4000" y="1447920"/>
            <a:ext cx="8854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血常规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性肺炎白细胞计数升高、中性粒细胞增多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性肺炎白细胞大多正常或偏低，淋巴细胞增高或出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异性淋巴细胞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837720" y="764640"/>
            <a:ext cx="807732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反应蛋白（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CRP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感染时血清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CRP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值多上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非细菌性感染时上升不明显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病原学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咽拭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痰液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肺泡灌洗液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血标本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肺穿刺组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7732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胸部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线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纹理增粗，点片状阴影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1" name="Picture 5" descr="P1010010"/>
          <p:cNvPicPr/>
          <p:nvPr/>
        </p:nvPicPr>
        <p:blipFill>
          <a:blip r:embed="rId1">
            <a:lum bright="6000"/>
          </a:blip>
          <a:srcRect l="3735" t="16447" r="5121" b="21303"/>
          <a:stretch/>
        </p:blipFill>
        <p:spPr>
          <a:xfrm>
            <a:off x="5076720" y="3429000"/>
            <a:ext cx="3888000" cy="29415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nodeType="clickEffect" fill="hold">
                      <p:stCondLst>
                        <p:cond delay="0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5"/>
          <p:cNvSpPr/>
          <p:nvPr/>
        </p:nvSpPr>
        <p:spPr>
          <a:xfrm>
            <a:off x="1619280" y="4941720"/>
            <a:ext cx="648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0" name="Picture 10" descr="图片2"/>
          <p:cNvPicPr/>
          <p:nvPr/>
        </p:nvPicPr>
        <p:blipFill>
          <a:blip r:embed="rId1"/>
          <a:stretch/>
        </p:blipFill>
        <p:spPr>
          <a:xfrm>
            <a:off x="826920" y="907920"/>
            <a:ext cx="8317080" cy="5950080"/>
          </a:xfrm>
          <a:prstGeom prst="rect">
            <a:avLst/>
          </a:prstGeom>
          <a:ln w="0">
            <a:noFill/>
          </a:ln>
        </p:spPr>
      </p:pic>
      <p:sp>
        <p:nvSpPr>
          <p:cNvPr id="691" name="Text Box 11"/>
          <p:cNvSpPr/>
          <p:nvPr/>
        </p:nvSpPr>
        <p:spPr>
          <a:xfrm>
            <a:off x="3930480" y="525924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99"/>
                </a:solidFill>
                <a:latin typeface="楷体_GB2312"/>
                <a:ea typeface="楷体_GB2312"/>
              </a:rPr>
              <a:t>鼻窦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2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采用综合治疗措施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控制感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改善肺通气功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加强护理和对症治疗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防治并发症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一般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居室或病室室温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℃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相对湿度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0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为宜，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交叉感染；保持呼吸道通畅；保持呼吸道湿润，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变换体位、拍背，以利痰液排出；给予易消化且富含蛋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质和维生素的饮食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病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抗生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原则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根据病原菌选用敏感药物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早期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联合治疗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选用渗入下呼吸道浓度高的药物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足量、足疗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重症宜经静脉途径给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826560" y="549360"/>
            <a:ext cx="807732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根据病原菌选用敏感药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肺炎链球菌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青霉素敏感者首选青霉素或阿莫西林；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青霉素过敏者选用大环内酯类抗生素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金黄色葡萄球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甲氧西林敏感着首选苯唑西林钠或氯唑西林钠；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耐药者选用万古霉素或联合利福平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流感嗜血杆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阿莫西林加克拉维酸（或加舒巴坦）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大肠埃希菌和肺炎杆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头孢曲松或头孢噻肟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铜绿假单胞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替卡西林加克拉维酸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肺炎支原体和衣原体：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楷体"/>
              </a:rPr>
              <a:t>首选大环内酯类抗生素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真菌性肺炎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可选用两性霉素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、氟康唑、伏立康唑等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抗生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用至体温正常后的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，临床症状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征消失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。葡萄球菌肺炎易复发及产生并发症，体温正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常后继续用药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总疗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。支原体肺炎至少用药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抗病毒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支持疗法、对症疗法和加强护理等居重要地位，有肯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效的抗病毒药物减少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4000" y="1066320"/>
            <a:ext cx="8135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对症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缺氧症状时应及时吸氧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、咳嗽、咳痰者，给予退热、祛痰、止咳，保持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通畅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喘憋明显者可用支气管解痉剂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腹胀低钾者及时补钾，中毒性肠麻痹给予禁食、胃肠减压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电解质和酸解失衡者给予纠正水、电解质、酸碱平衡紊乱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55640" y="1066320"/>
            <a:ext cx="8159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糖皮质激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无需常规使用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应用指征：喘憋明显伴呼吸道分泌物增多者；中毒症状明显的重症肺炎，如合并中毒性脑病、休克、脓毒症者；有急性肺损伤或全身炎症反应综合征者；短期内胸腔内有大量渗出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肺炎合并心力衰竭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治疗原则为镇静、吸氧、强心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利尿和应用血管活性药物。可用水合氯醛射肛给药镇静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选用具有正性肌力、负性频率作用的快速洋地黄制剂，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毛花苷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或毒毛花苷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尿少伴水肿者可用呋塞米利尿；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管活性药物选酚妥拉明等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中毒性脑病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纠正缺氧和减轻脑水肿。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甘露醇静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脉注射，辅以地塞米松和呋塞米降颅压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3" descr="3bb22487c9531c39c65cc333"/>
          <p:cNvPicPr/>
          <p:nvPr/>
        </p:nvPicPr>
        <p:blipFill>
          <a:blip r:embed="rId1"/>
          <a:stretch/>
        </p:blipFill>
        <p:spPr>
          <a:xfrm>
            <a:off x="900000" y="1197000"/>
            <a:ext cx="8244000" cy="566100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生物制剂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重症患儿可静脉注射人血丙种球蛋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0mg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kg·d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，连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评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7732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社会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826920" y="1052640"/>
            <a:ext cx="8498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理呼吸道无效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呼吸道分泌过多、痰液黏稠、咳嗽无力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体交换受损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肺部炎症致通气、换气功能障碍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温过高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肺部感染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心力衰竭、中毒性脑病、中毒性肠麻痹等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营养失调：低于机体需要量  与摄入不足、消耗增加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措施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26560" y="1052640"/>
            <a:ext cx="80773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保持呼吸道通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改善呼吸功能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维持体温正常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密切观察病情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指导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合胞病毒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RSV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感染所致，是最常见的病毒性肺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婴幼儿，尤其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内的婴儿多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较早：哮鸣音、呼吸音减弱、湿啰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小点片状薄阴影、梗阻性肺气肿、支气管周围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大多正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病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sp>
        <p:nvSpPr>
          <p:cNvPr id="977" name="Text Box 5"/>
          <p:cNvSpPr/>
          <p:nvPr/>
        </p:nvSpPr>
        <p:spPr>
          <a:xfrm>
            <a:off x="1495800" y="2080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呼吸道合胞病毒肺炎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/>
          </p:nvPr>
        </p:nvSpPr>
        <p:spPr>
          <a:xfrm>
            <a:off x="90000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幼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急骤，全身中毒症状明显，稽留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频繁，可出现喘憋、呼吸困难、发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出现晚，高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后出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胸片改变较肺部体征早，大小不等的片状阴影、肺气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正常或偏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病毒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Text Box 4"/>
          <p:cNvSpPr/>
          <p:nvPr/>
        </p:nvSpPr>
        <p:spPr>
          <a:xfrm>
            <a:off x="755640" y="260280"/>
            <a:ext cx="26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腺病毒肺炎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8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755280" y="-171360"/>
            <a:ext cx="7256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金黄色葡萄球菌肺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11280" y="1447920"/>
            <a:ext cx="8532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新生儿及婴幼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急，病程重，发展快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为弛张热，皮肤有猩红样皮疹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中毒症状明显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出现早，可闻及中、细湿啰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易并发脓胸、脓气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总数及中性粒细胞增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治疗：苯唑西林钠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3" name="Picture 4" descr="u=3533083051,1464226642&amp;fm=15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4876920"/>
            <a:ext cx="2438280" cy="1981080"/>
          </a:xfrm>
          <a:prstGeom prst="rect">
            <a:avLst/>
          </a:prstGeom>
          <a:ln w="0">
            <a:noFill/>
          </a:ln>
        </p:spPr>
      </p:pic>
      <p:pic>
        <p:nvPicPr>
          <p:cNvPr id="984" name="图片 1" descr=""/>
          <p:cNvPicPr/>
          <p:nvPr/>
        </p:nvPicPr>
        <p:blipFill>
          <a:blip r:embed="rId3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肺炎支原体肺炎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缓慢，持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多见于年长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刺激性干咳为突出表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不明显，中毒症状不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三痛：咽、胸、肌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系统损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线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种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门阴影增浓为突出表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肺炎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间质性肺炎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均一的实变影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正常或增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大环内酯类药物：阿奇霉素、红霉素、克林霉素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五节  支气管哮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675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简称哮喘，是由多种细胞（肥大细胞、嗜酸性粒细胞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淋巴细胞、中性粒细胞、气道上皮细胞等）参与的气道慢性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性疾病，引起气道高反应导致可逆性气道阻塞。临床表现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反复发作性喘息、呼吸困难、胸闷或咳嗽，常在夜间和（或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晨发作或加剧，多数患儿可经治疗缓解或自行缓解。全球约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6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亿患者，发达国家高于发展中国家，城市高于农村。儿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如诊治不及时，随病程的延长可产生气道不可逆性狭窄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道重塑。因此，早期防治很重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382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532720" cy="58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的病因还不十分清楚，患者个体过敏体质及外界环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影响是发病的危险因素。哮喘与多基因遗传有关，同时受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传因素和环境因素的双重影响。多数患儿既往有婴儿湿疹、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异性鼻炎、药物或食物过敏，不少患儿有家族史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5"/>
          <p:cNvSpPr/>
          <p:nvPr/>
        </p:nvSpPr>
        <p:spPr>
          <a:xfrm>
            <a:off x="8532720" y="5805360"/>
            <a:ext cx="6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6" name="Picture 6" descr="01300000165488122413157483051_s"/>
          <p:cNvPicPr/>
          <p:nvPr/>
        </p:nvPicPr>
        <p:blipFill>
          <a:blip r:embed="rId1"/>
          <a:stretch/>
        </p:blipFill>
        <p:spPr>
          <a:xfrm>
            <a:off x="684360" y="981000"/>
            <a:ext cx="8459640" cy="5877000"/>
          </a:xfrm>
          <a:prstGeom prst="rect">
            <a:avLst/>
          </a:prstGeom>
          <a:ln w="0">
            <a:noFill/>
          </a:ln>
        </p:spPr>
      </p:pic>
      <p:pic>
        <p:nvPicPr>
          <p:cNvPr id="697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382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532720" cy="61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诱发因素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感染：病毒感染是哮喘发作的重要原因，呼吸道合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胞病毒、流感病毒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非特异性刺激：尘螨、花粉、真菌、动物毛屑、化学气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二氧化硫）、烟、油漆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候变化：寒冷、空气干燥、大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药物：阿司匹林、磺胺类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食物：鱼、虾蟹、蛋、牛奶、食品添加剂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其他：大笑、过度兴奋、大哭、剧烈运动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500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500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770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9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1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3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770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0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2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4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770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9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1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3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770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8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0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2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770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7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9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1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770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6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8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0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 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气道炎症是哮喘的最主要病理改变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流受限是哮喘病理生理改变的核心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痉挛、管壁炎症性肿胀、黏液栓形成和气道重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塑均是造成患儿气道受阻的原因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道高反应性是哮喘的基本特征之一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06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症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咳嗽和喘息呈阵发性发作，以夜间和清晨为重，发作前可有流涕、打喷嚏、胸闷，发作时呼吸困难，呼气相延长伴有喘鸣音。严重时呈端坐呼吸，恐惧不安、大汗淋漓、面色青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784872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体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桶状胸、三凹征，肺部布满哮鸣音，严重者气道广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堵塞，哮鸣音反而消失，称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闭锁肺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，是哮喘最危险的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体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4596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哮喘危重状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哮喘发作在合理应用常规缓解药物治疗后仍有严重或进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性的呼吸困难者，称为哮喘危重状态（哮喘持续状态）表现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哮喘急性发作，出现咳嗽喘息、呼吸困难、大汗淋漓、烦躁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安甚至表现为端坐呼吸、语言不连贯、严重发绀、意识障碍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心肺功能不全的征象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儿童哮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反复发作喘息、咳嗽、气促、胸闷，多于接触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应原、冷空气、物理或化学刺激、呼吸道感染及运动等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关，常在夜间和（或）清晨发作或加剧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发作时在双肺可闻及散在或弥漫性，以呼气相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的哮鸣音，呼气相延长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上述症状和体征经抗哮喘治疗有效或自行缓解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除外其他疾病所引起的喘息、咳嗽、气促和胸闷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80773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儿童哮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临床表现不典型者（无明显喘息或哮鸣音），应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至少具备以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项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①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激发试验或运动激发试验阳性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②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证实存在可逆性气流受限：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舒张实验阳性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吸入速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受体激动剂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钟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加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﹪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喘治疗有效：使用支气管舒张剂和口服（或吸入）糖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皮质激素治疗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加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③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每日变异率（连续监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）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符合第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条或第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条者，可以诊断为哮喘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7138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咳嗽变异性哮喘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咳嗽持续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，常在夜间和（或）清晨发作或加剧，以干咳为主。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临床上无感染征象，或经较长时间抗生素治疗无效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抗哮喘药物诊断性治疗有效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排除其他原因引起的慢性咳嗽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支取管激发试验阳性和（或）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每日变异率（连续监测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）≥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个人或一级、二级亲属有特异性疾病史，或变应原测试阳性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以上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项为诊断的基本条件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900000" y="1268280"/>
            <a:ext cx="82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肺功能检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要用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上患儿。常用的指标有第一秒呼气容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预计值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用力肺活量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VC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FVC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呼气峰流速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。支气管舒张试验反映了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逆性气道阻塞，是哮喘诊断依据之一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8" dur="2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231300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9" name="TextBox 4"/>
          <p:cNvSpPr/>
          <p:nvPr/>
        </p:nvSpPr>
        <p:spPr>
          <a:xfrm>
            <a:off x="311040" y="2781360"/>
            <a:ext cx="10335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下呼吸道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00" name="左大括号 5"/>
          <p:cNvSpPr/>
          <p:nvPr/>
        </p:nvSpPr>
        <p:spPr>
          <a:xfrm>
            <a:off x="1332000" y="2492280"/>
            <a:ext cx="571320" cy="235764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357640"/>
              <a:gd name="textAreaBottom" fmla="*/ 2342880 h 235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8"/>
                  <a:pt x="10800" y="436"/>
                </a:cubicBezTo>
                <a:lnTo>
                  <a:pt x="10800" y="10364"/>
                </a:lnTo>
                <a:cubicBezTo>
                  <a:pt x="10800" y="10582"/>
                  <a:pt x="5400" y="10800"/>
                  <a:pt x="0" y="10800"/>
                </a:cubicBezTo>
                <a:cubicBezTo>
                  <a:pt x="5400" y="10800"/>
                  <a:pt x="10800" y="11018"/>
                  <a:pt x="10800" y="11236"/>
                </a:cubicBezTo>
                <a:lnTo>
                  <a:pt x="10800" y="21164"/>
                </a:lnTo>
                <a:cubicBezTo>
                  <a:pt x="10800" y="2138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bdbc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01" name="矩形 6"/>
          <p:cNvSpPr/>
          <p:nvPr/>
        </p:nvSpPr>
        <p:spPr>
          <a:xfrm>
            <a:off x="2050920" y="234936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气管、支气管：狭小、软骨软、血管多、纤毛运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动差  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肺：弹力差、血管丰、间质盛、肺泡少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82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胸部</a:t>
            </a: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线检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可有过度通气及肺纹理增重，病史长者可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气肿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5" dur="2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82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过敏原测试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常用的包括皮肤点刺试验、体外血清特异性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E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检测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血清总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E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检测。对了解哮喘个体的病因和危险因素，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是否是特异性体质有重要意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2" dur="2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604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AHR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检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功能正常时，可用醋甲胆碱、组胺等药物以及运动行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管激发试验。试验阳性可诊断存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HR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是哮喘诊断依据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之一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9" dur="2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62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坚持长期、持续、规范和个体化的治疗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治疗重点为抗炎、平喘，以便快速缓解症状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慢性持续期应坚持长期抗炎，降低气道反应性，防止气道重塑，避免危险因素和自我保健。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137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效控制急性发作症状，并维持最轻的症状，甚至无症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症状加重或反复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尽可能将肺功能维持在正常或接近正常水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发生不可逆的气流受限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正常活动（包括运动）能力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避免药物不良反应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因哮喘而死亡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去除病因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避免接触过敏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去除各种诱发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治疗和清除感染病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10920" y="981000"/>
            <a:ext cx="8281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缓解支气管痉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减轻气道黏膜水肿和炎症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减少黏液分泌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848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哮喘慢性持续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局部吸入糖皮质激素是目前控制哮喘的最有效的首选药。局部抗炎作用强，不良反应少。通常需长期规范吸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哮喘急性发作加重的处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注意氧疗、补液、纠正酸中毒，慎用镇静剂，评估对治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的反应性和既往哮喘急性发作的状态，早期静脉使用全身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性糖皮质激素，亦可静点氨茶碱，必要时行机械通气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预防复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应避免接触过敏原，积极治疗和清除感染灶，去除各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诱发因素。吸入维持量糖皮质激素，控制气道反应性炎症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是预防复发的关键。此外，特异性免疫治疗，可使机体对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敏原产生耐受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0" dur="indefinite" restart="never" nodeType="tmRoot">
          <p:childTnLst>
            <p:seq>
              <p:cTn id="1311" dur="indefinite" nodeType="mainSeq">
                <p:childTnLst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1T02:00:40Z</dcterms:created>
  <dc:creator>zhaoxin</dc:creator>
  <dc:description/>
  <dc:language>en-US</dc:language>
  <cp:lastModifiedBy>微软用户</cp:lastModifiedBy>
  <dcterms:modified xsi:type="dcterms:W3CDTF">2015-09-07T02:54:00Z</dcterms:modified>
  <cp:revision>249</cp:revision>
  <dc:subject/>
  <dc:title>ThemeGallery PowerTemplate</dc:title>
</cp:coreProperties>
</file>